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D9EC-B0D5-4527-87F5-76C381214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2000-9BB5-46F5-B951-1628A478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1A33-B3CD-4A16-B573-51B0D9B9D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618E-BA20-4DD5-9AB9-8F9CC1A8C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A560-D64B-4047-B2AD-213578B5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A74C-665A-4405-B58F-994B425E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DA53-D367-4CA2-94AB-2C7EB747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BF52-49E9-4D21-806B-8979E693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5074-6D69-4112-B99B-F19FD886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5C8B-7459-48C4-B5E3-A214DDB2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F7BF-55E9-4928-8B3E-742C3645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F0B4-6061-4128-A4A1-A7FD48D1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D10C-3775-41BC-8C60-6BB2B1DAA8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6:25:03Z</dcterms:created>
  <dc:creator>Michael McCandless</dc:creator>
  <dc:description/>
  <dc:language>en-US</dc:language>
  <cp:lastModifiedBy>Lukas Graf</cp:lastModifiedBy>
  <dcterms:modified xsi:type="dcterms:W3CDTF">2014-09-01T10:23:50Z</dcterms:modified>
  <cp:revision>2</cp:revision>
  <dc:subject/>
  <dc:title>Slide 1</dc:title>
</cp:coreProperties>
</file>