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5356-D746-41CB-93DE-97AC29018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CEEF-74C8-4950-A29C-A9E8A7E38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253F-6563-45A8-98BA-856F94400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CC85-2566-4DF3-A5CE-4FDEFE0BA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6748-E987-45DD-AE07-7F94B96FB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6E28-52E4-4F75-9894-6294C1508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0CC0-8AC4-4721-B53A-4FEA3AF60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1B53-1D29-468C-BE34-1712572BD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916C-3E55-4B01-B195-5D8957312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CD0D-2B3B-46A0-95A7-2435F2438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BA30-DC93-4F8F-9D34-41C280169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E81D-D258-48CC-9082-EB4C1C1CE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67732E-1DE2-46CE-998F-C125A62D19A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6T13:41:16Z</dcterms:created>
  <dc:creator>m l</dc:creator>
  <dc:description/>
  <dc:language>en-US</dc:language>
  <cp:lastModifiedBy>m l</cp:lastModifiedBy>
  <dcterms:modified xsi:type="dcterms:W3CDTF">2013-11-26T13:41:51Z</dcterms:modified>
  <cp:revision>1</cp:revision>
  <dc:subject/>
  <dc:title>title</dc:title>
</cp:coreProperties>
</file>