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947B-CC2F-4DCE-83D9-4EA5DEDBE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0EE1-3821-49D4-B750-2EF5787A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6937-4A83-45A0-A8E8-0182D06B3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0713-15A4-4D7D-B599-2E4058CB9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C1FB-76DD-4AB7-B678-2268C33F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F71D-36A2-45AF-8D63-ADA16AB6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6973-E158-4461-8DBC-338763C2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1A58-2B27-4A28-91AD-6E70AFC8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365D-7853-4688-95B2-8EC838B4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47E1-1A44-4CBB-B620-D927A017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E150-4533-48D7-B618-77428443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4CFF-DB21-465E-BA07-9CEEB1F3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3D3A-4767-434B-ACD9-39A93025F2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6:25:03Z</dcterms:created>
  <dc:creator>Michael McCandless</dc:creator>
  <dc:description/>
  <dc:language>en-US</dc:language>
  <cp:lastModifiedBy>Lukas Graf</cp:lastModifiedBy>
  <dcterms:modified xsi:type="dcterms:W3CDTF">2014-09-01T10:23:50Z</dcterms:modified>
  <cp:revision>2</cp:revision>
  <dc:subject/>
  <dc:title>Slide 1</dc:title>
</cp:coreProperties>
</file>